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7BF7-1188-4352-A944-B2990E1C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B1A6-51E6-4877-98F9-A91DC16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9F2B-C954-49A8-A48E-247F8F86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988F-9FE3-4744-8C47-957B99EF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CF42-9896-4905-B419-1E46D7B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58D-279B-4C0F-9818-16FA21FE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BD54-B987-40CA-B9EE-14993F8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23A-09E2-43A2-85E6-97D513AF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B0D-74A4-44EE-848C-A1A0B5EF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B093-F07D-4BF3-A4A0-D4BC4E0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506-DD8C-4576-8CB5-2EF00B0F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8CC5-1FF5-465B-81AE-70EF3A5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9D16-50AD-4AA7-9B0C-C337B01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5D4-910E-4E93-8C46-EC1C40F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2C3-5C5E-4E8C-8830-1F91C8EB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734B-E5D4-4C1E-908C-035E4356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EE3-23A4-4B9F-B76E-0DBEB8BE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BB60-7F23-41AE-8B52-6877D3D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46EC-692C-43AB-B46B-B584195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C9D7-BEF4-4DB1-9A0C-6451D2E3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ECD0-08A4-45EA-9780-BA7A5FB7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6F37-78C8-494B-899B-C1A7B1C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184B-D96F-48F8-B397-21D3FB22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48AA-B84E-4CDE-B39F-4F66E38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231A-D9B3-4010-8321-F6754B505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CEA-6BE0-414F-AA21-019600B70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enefits to Studying a Foreign Languag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ies show that it enhances Critical Thinking Skills and Problem Solving Ski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kills are easily transferred to other academic subjects and improve performance in these other academic subjec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is a correlation between the study of a foreign language and higher SAT sco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ployment Opportun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s you better understanding of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nglish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lps to learn other langua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hances students’ cultural awareness and understand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se it for Tra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t’s FUN!!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22:57:00Z</dcterms:created>
  <dc:creator>ERousseau</dc:creator>
  <dc:description/>
  <dc:language>en-US</dc:language>
  <cp:lastModifiedBy>ERousseau</cp:lastModifiedBy>
  <dcterms:modified xsi:type="dcterms:W3CDTF">2014-02-04T23:00:39Z</dcterms:modified>
  <cp:revision>2</cp:revision>
  <dc:subject/>
  <dc:title>Slide 1</dc:title>
</cp:coreProperties>
</file>